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D49-32A2-4516-A589-1FFCCEBF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AA3-89E9-4714-93E2-687446F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5D0-F660-4048-B74B-2A2A906B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04C-7161-4EE0-85A9-98130586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9C6A-88C3-437E-84ED-923BA240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E762-C47B-46BC-BD15-B3D80A7E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A2FB-639E-4729-AAE5-0DB47A0A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3861-04A0-4D3F-8476-46508979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09BA-89EC-48C8-8881-373A9AA7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F788-FC66-41C7-AE9A-05B2FC45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CEE0-A922-4F05-9AF5-FC85BEB0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195-27A2-4C64-9295-4D366754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95BE-C010-47AA-A9BD-FC6524D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EDE7-0081-415A-86CF-D98EFFED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E59F-8AA5-4B14-9BB7-C94C2A4C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91E3-661F-46C1-9A9E-A78B692F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CE46-DA2F-4424-8FE8-CA7584A5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715-AF10-4CEE-A9F4-54350FBC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CC8-959E-4914-843C-B3A6B306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5D0-89BD-4AB0-B853-F96E08A8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DB8-3F2F-4CA1-AB8E-44247645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7ED-7AE6-4AFA-A38A-CE99B93E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F42-47BF-486C-961F-955540CD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C63-A875-4FB7-8C9D-0D353E98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7DFE-793B-4162-AFC1-A8D413EFF3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C974-1D04-47E4-BDBC-4A3F900570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1;&#1090;&#1072;&#1085;&#1090;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Мутация ДНК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300360" y="5373720"/>
            <a:ext cx="2592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дготовил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тудентка 231 группы Гусева Людмил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190512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Вывод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ahoma"/>
              </a:rPr>
              <a:t>Следите за своим здоровьем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5327640" cy="3351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итератур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ru.wikipedia.org/wiki/Мут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Tahoma"/>
              </a:rPr>
              <a:t>Цель: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знакомиться и понять что такое мут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Tahoma"/>
              </a:rPr>
              <a:t>Задачи: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понят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тац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классификацию мут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зывает мутацию ДН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ить значение мут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Tahoma"/>
              </a:rPr>
              <a:t>Задача №1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утац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тойкое (то есть такое, которое может быть унаследовано потомками данной клетки или организма) изменение генотипа, происходящие под влиянием внешней или внутренней сре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43280" y="4005360"/>
            <a:ext cx="3960720" cy="22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Tahoma"/>
              </a:rPr>
              <a:t>Задача №2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54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лассификация мутаций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Хромосом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Геном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Генны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мут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ыражаются в изменении структуры отдельных участков ДН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нные мутации встречаются более част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ru-RU" sz="2000" spc="-1" strike="noStrike">
                <a:solidFill>
                  <a:srgbClr val="cc3300"/>
                </a:solidFill>
                <a:latin typeface="Tahoma"/>
              </a:rPr>
              <a:t>хромосомных мутация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оисходят крупные перестройки структуры отдельных хромосом. В этом случае наблюдается удвоение части (дупликация) генетического материала одной или нескольких хромос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ahoma"/>
              </a:rPr>
              <a:t>Геномные мут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ни представлены  более чем 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6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борами хромос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Мутагены</a:t>
            </a:r>
            <a:br>
              <a:rPr sz="2400"/>
            </a:b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Существуют факторы, способные заметно увеличить частоту мутаций — мутагенные факторы. К ним относятся: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химические мутаге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вещества, вызывающие мутаци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физические мутаге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ионизирующие излучения, в том числе естественного радиационного фона, ультрафиолетовое излучение, высокая температура и др.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биологические мутаге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например, ретровирусы, ретротранспозо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Задача №3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бачный д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нно- модифицированная е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рус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ешняя сре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15080" y="620640"/>
            <a:ext cx="369540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3529080" cy="2695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92720" y="602136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от-доги вызывают генетические мут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Tahoma"/>
              </a:rPr>
              <a:t>Задача №4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скорение селе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тественный от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557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Значение мутаций для эволюции, селекции и медиц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Хромосомные и генные мутации оказывают разнообразные воздействия на организ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4149720"/>
            <a:ext cx="4392720" cy="2087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Положительных сторон у мутации ДНК не так много как отрицательных!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индром Дау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ковые опуха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утации приводят к летальному исхо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3816360" cy="3079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4:59:45Z</dcterms:created>
  <dc:creator>www.PHILka.RU</dc:creator>
  <dc:description/>
  <dc:language>en-US</dc:language>
  <cp:lastModifiedBy>www.PHILka.RU</cp:lastModifiedBy>
  <dcterms:modified xsi:type="dcterms:W3CDTF">2009-12-21T20:33:11Z</dcterms:modified>
  <cp:revision>14</cp:revision>
  <dc:subject/>
  <dc:title>Мутация ДНК</dc:title>
</cp:coreProperties>
</file>